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6097-7412-424E-B93C-D2EEE1F70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4EDE-6ADC-49D9-8058-738BCE800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4624-5568-4E20-A4ED-5882A74E3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4438-B4A7-493B-92A5-D9A8105062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127C-B384-43AF-A12F-AF0A9C6E97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10E3-558A-4052-ADA7-BDD4F377E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96E6-ACDE-442F-AA74-CE6CD129C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54AF-C4CE-48B6-9714-0FFFD79CC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88AB-825C-4C01-8EAE-FAC3B790B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58C9-6C92-4C91-8A3D-BAB4616F4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9045-1A49-42A8-BFCD-AE75BC541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0DBD-EDBC-48B5-8E23-854041FFC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76D1-EFE5-4D31-B795-A8B3BF31F5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D962-4E8B-4EC2-8D79-2AA49CC4C4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160" y="2666520"/>
            <a:ext cx="830556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crete Pathwa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gebraic Thinking</a:t>
            </a: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rriculum Views 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2800" spc="-1" strike="noStrike">
                <a:solidFill>
                  <a:srgbClr val="ff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hematical proc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ters ar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o to th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cess that </a:t>
            </a:r>
            <a:r>
              <a:rPr b="1" i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s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lect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e of thinking w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been 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s take a minute to share together, then share their thinking with the whol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D69E-32A3-4822-AFD0-BC8BEDD7B3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6CA2-F8CC-46FE-AB5F-BD57CAD7C1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30FD-0C21-404F-92C6-CE99E899A9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AD70-EA9B-4B5D-9FC8-DEAE6D5161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6858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Personal Reflection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 on your learning today, and record your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interesting  ideas and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questions, things to follow up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6099120" y="28843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7543440" y="3200040"/>
            <a:ext cx="83808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E334-0705-4FC1-8ECF-CED8989F58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3846-9378-439C-BF4C-690B8649C7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0948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olidate:  Feedback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share your personal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completing an exit c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things I learned today about algebraic reaso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am wondering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bd06662_" descr=""/>
          <p:cNvPicPr/>
          <p:nvPr/>
        </p:nvPicPr>
        <p:blipFill>
          <a:blip r:embed="rId2"/>
          <a:stretch/>
        </p:blipFill>
        <p:spPr>
          <a:xfrm>
            <a:off x="7045200" y="990720"/>
            <a:ext cx="2098800" cy="185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edback and Observations from yester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4650-5CF3-44F7-B48B-EE003F15AC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4A2E-4F48-45D2-A321-93C673CDAB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289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d explore concrete models of 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connections between concrete patterns and algebraic thinking (generalizations, justification, conje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reciate the power of multiple representations to deepen and support algebraic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nect algebraic thinking to mathematical process expecta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6288-DF77-49C9-B3A1-61AEAB8F8A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EEB7-ECC2-415F-A7CB-321F64C733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624C-7F05-4F47-A36A-5C12D40B8C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D515-081C-468E-A57F-5BDF5CC7C7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80880" y="10666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a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 of any fun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underlying pattern evi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model facilitate general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y and Str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e other groups’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452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guess the fun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-480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s On: Reflecting ~ 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id you notice about the model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questions do you have about concrete models of function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your observations and questions with your group or a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common questions on chart paper for futu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1E5D-B105-46D5-9C92-917331984C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8509-27C8-4A62-9D55-43A86D12D0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99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arning Self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fortable are you with concrete represen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od to g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I feel very comfortable, and could expla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to some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ed with cau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getting it,  but I ne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m feeling confused and would like m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B468-FB39-4CDF-AE9B-57F5A57B39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C21C-ECEE-4A68-8791-18A61981D3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bd07304_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Secret Pattern 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 partner who showed the same colour as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be given a card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cret Pattern Building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6120" indent="-597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quare tiles to build the pattern with your part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372960" algn="r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f you are done, turn your card upside down, walk around and try to guess other people’s patterns!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31F5-22A9-4CAF-AC2F-E5AC1D1886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DFE0-7E2D-4F72-B5FF-BCE25C5623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2351160"/>
            <a:ext cx="3429000" cy="1077840"/>
          </a:xfrm>
          <a:prstGeom prst="cloudCallout">
            <a:avLst>
              <a:gd name="adj1" fmla="val -23379"/>
              <a:gd name="adj2" fmla="val 42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590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Hint:  Use stickies to  label th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Representing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5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d the other pair with the same secret pattern to make a group of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k through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Representing A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e pair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Grap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ption, one choos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Times New Roman"/>
              </a:rPr>
              <a:t>Linking C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you work and ideas on chart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CD16-89C3-4DD8-8F7B-FDBB61CF1C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17E0-BF22-48AC-898B-D69AEFCCE1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Algebraic Thinking</a:t>
            </a: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 – Breakout </a:t>
            </a:r>
            <a:r>
              <a:rPr b="1" lang="en-US" sz="3600" spc="-1" strike="noStrike">
                <a:solidFill>
                  <a:srgbClr val="2b5ca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88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on:  Exploring Conjectures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~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e and discuss the work of the oth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about  what you heard about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onj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 the Plenary sess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is work provide an opportunity fo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ort of conjectures might students mak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might they justify their conjec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03FA-4900-458D-B792-2F78ED9D2A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AB86-0929-4DD4-B390-B7B82D4651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10T02:31:00Z</dcterms:modified>
  <cp:revision>29</cp:revision>
  <dc:subject/>
  <dc:title>&lt;Title&gt;</dc:title>
</cp:coreProperties>
</file>